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7AE-C31C-4C90-B5A9-689E744C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9AA-8401-4D09-A63F-29B454F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D0A-0A1D-466A-AD29-44E8B765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4B1-F577-4506-8142-438F7BC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5C2-0C67-4506-BCE8-436FE442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589-7BDF-44D5-992B-B267658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FCBD-5065-479E-84AB-16EEDBA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320D-1767-4359-833D-9C5B1BA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D8C-98C1-40FE-862F-F8BA2E6A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A491-3F93-4EF7-A462-BC3FD566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ECDA-E8EF-429B-89C6-B4EA78E8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B4D-D8A8-4A84-A4FE-472472B2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F3A8-4E58-47B4-8F31-F0E07A5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F45-043D-4BFE-A2AE-5BD827F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8B9F-6028-4867-A914-7DEE0015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E762-74EB-437C-BA08-0698083D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7C6E-A043-4551-8610-332DADE2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F4F-7327-40F6-B85B-321A7933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5CE-CBC9-4EED-81AB-E945C12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359-6938-4721-AE8E-8CF4A9D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AD6-2F3E-44B1-8B2B-43564752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DA9-046E-4649-834A-2D74176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DB6-3905-4DDB-A5CA-D339FBB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0EB-7A44-4E41-8C3F-9F4D77F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082-12BA-4D93-B100-AA7F7DD7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ECB-C423-436F-9FC4-F85F5C96F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pporting Early Literacy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essi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Julie Zr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develop a love of literature and good boo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gain practice in visualizing (decontextualising) events and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extend their imagination and can picture other possible wor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expand their vocabulary and understanding of sentence 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develop familiarity with setting, plot, characters, climax, 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are better able to predict and appreciate new sto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children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 for connections between prior knowledge and new information 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most important ideas and themes in a 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questions of themselves, the author and the tex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visual and other sensory images from text during and after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children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inferences from texts . . . read between the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e what has been read . . . make connections between texts and apply what is read to other texts and 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e a variety of fix-up strategies to repair comprehension when it breaks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Ke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ing to tell what is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ing it in a way that makes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not to tell too mu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between the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 open-ended rather than predicting outcomes, events or actions that can be confirmed or contradi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remain unresolved at the end of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important id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ft and sor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s about what information needs to be remembered and what can be discar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zing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ing individual pieces of information and combining them with our prior knowledge, forming a new idea or idea from the pieces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synthesizing concrete – baking a cake, jigsaw puzz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odelled/Interactive Writing time to demonstr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use a shared experience to help plan your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engage in a short conversation to decide on what your piece of writing will s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t conventions and connections between print and illust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ords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nection between reading and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, talk about and teach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your writing inter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your writing is clear and coher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ze your though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ppropriate vocabu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ppropriate conventions and sp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se, edit and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a point of 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reading is meaning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ist that it makes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wareness of the story to pred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 to confirm or fix-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attempt to SC when it doesn’t make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comments or react to the meaning of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with phrasing and into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, talk about and teach how to make your writing interesting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nteresting and exciting words and phra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dialo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ing to check your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unusual or interesting star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ing constructive respo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how to have a clear sequence in your writing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king about the beginning, the middle and the 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king about the writing before you st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ing to check how your writing sou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feedback from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, talk about and teach how to revise and edit your writing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ing how to check for order, choice of words and writing conven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ng an editing check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reading to check your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how to check your spelling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a bank of high frequency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ing the bank of known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link out from a known word to get to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stretch out a word and record the sounds you hear to get to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clap the syllables in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reading and underlining words you are not sure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different writing styles and different genres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sing the purpose of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ing the features of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sure you are demonstrating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examples of different genres in the reading texts you pro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all sources of information in an integrated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eaning, Structure and Visual sources of information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and attempt to self correct any mistak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ounds and meanings of our language are mapped specifically to the way language looks in pr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phonemically a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honics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becoming independent problem-sol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ome words need to be memorized and recognized instantly without sounding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high frequency words automatically, very quickly and with little conscious thou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important to use those words and spelling patterns you already know to help you quickly get to new and/or more complex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a growing number of common spelling patterns at a level of automatic recogn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and recognize common spelling patterns with little conscious tho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get bogged down in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ou have to be actively engaged in understanding each text at high levels of comprehen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nk about the text and their own comprehension before, during and after they r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tilize effective strategies used by good comprehen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iar Readin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readings allow for increased familia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arity brings awareness of plot and characters, of meanings, of language structures and words that carry mea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each reading the task is new and challenging but the child can bring more knowledge to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iar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ar Reading helps children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to be r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on their language resources and knowledge of th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with phrasing and flu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into place smooth orchestration of behaviours necessary for effective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chestrate behaviours they have already lear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4:10:12Z</dcterms:created>
  <dc:creator>JZrna</dc:creator>
  <dc:description/>
  <dc:language>en-US</dc:language>
  <cp:lastModifiedBy>ZrnaJ</cp:lastModifiedBy>
  <dcterms:modified xsi:type="dcterms:W3CDTF">2011-04-01T02:58:26Z</dcterms:modified>
  <cp:revision>15</cp:revision>
  <dc:subject/>
  <dc:title>Supporting Early Literacy Learning</dc:title>
</cp:coreProperties>
</file>